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0F6C-899C-4D99-8949-CBE194AE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247C-2917-49E7-95FA-23A1FB9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3C2D-0165-4153-90E1-AF293899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31C2-93A8-43B8-81F8-9789FD5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6847-2AE6-4F71-8EA5-706DB10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64A-1558-42F3-B5BD-FB9B6E2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053-48A5-458C-B1D2-8EE4C9B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3F5-32C1-46C6-856B-B8BD4B6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519-EC2C-46B1-AD38-310F72EC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ECF-F53F-4241-B84C-62200DF8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2A9-0A37-4867-B1B0-7942EAD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0F42-F32C-44C1-8BE7-9C50F46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2F41-DC26-40C7-84E4-E2B6A98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7F9D-64A8-41F9-A0DC-21BCEB7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D7CF-B94E-4E44-ACC2-5ED0361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50A-4C21-4F91-90FC-41BB1152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93B-9262-4D99-8591-4EB83F1E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8F4D-ADEC-4E10-9CDC-A9344626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88DD-DCE4-4334-BB82-1E32F6F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015E-511B-4A66-8D15-D3513DF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32BB-2A51-4BCD-BDA3-8B1073D7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2B17-7B7D-48C1-874F-5387C9F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98AE-416C-4C5B-A758-AA55DDE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CF07-1466-40F5-87BC-CF11779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602-04EB-4F3F-B105-CDF6492A08F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9B2-E8C5-404D-84A6-D6548E74FA0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79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1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г е любов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изкуп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лю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ова пак казва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лю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Аз бях в вериг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реха смъртен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бях в вериг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помоще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ова пак казва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лю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Бог прати Спас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ител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прати Спас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ова пак казва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лю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Той ме пока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Словото 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пока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Духа Си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ова пак казва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любов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лю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2-13T15:55:20Z</dcterms:modified>
  <cp:revision>214</cp:revision>
  <dc:subject/>
  <dc:title>Slide 1</dc:title>
</cp:coreProperties>
</file>